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F848-6F66-4719-88BA-218E12D5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8605-0725-4715-8034-0E7F78D9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6BC-CB21-4F05-8E33-9A8D12F1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F59-97B6-4463-84C1-C75B33E3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CF6-EB28-4595-BA82-A5DB59DA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E2A6-2FB9-43E4-82CB-32CC1F39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193B-031E-4FDF-8655-AC07094A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C0F9-C4AA-479C-BE19-825406F2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2ED1-EEFC-4E60-AE46-1D7BD44B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98D-A1B6-4BF2-9BBD-467FBDA2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5EB-BB8F-4815-B36C-E3797AA0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E5C0-DBD0-41C0-9952-1D4F79EF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0644-9311-41FE-B13F-84011BEEF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4865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nee Flavel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mi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4869000"/>
            <a:ext cx="2158920" cy="153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59280" y="4437000"/>
            <a:ext cx="39243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ull name: Renee Kimberly Flav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ge: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B:28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March 19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orn in: Nag Puhi &amp; Ngati Kahungu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ight:1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ight: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amily and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a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ibl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re they grew up: Auckland, New Zea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 they have a job other than their s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porting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ast Olympics: 2008 Beij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wards won: She is ranked in the top 30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ow old were they when they started? When she was yo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ave they had to overcome any problems to get where they are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eing the best they can 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at do they have to do to be as good as they are?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(Training, food, lifestyle…) training eat healthy fo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994360" y="1600200"/>
            <a:ext cx="134640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32000" y="4724280"/>
            <a:ext cx="28796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y this athle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xplain here why you have chosen this athlete. What do you like about them? How have they inspired you? </a:t>
            </a:r>
            <a:br>
              <a:rPr sz="3200"/>
            </a:br>
            <a:br>
              <a:rPr sz="3200"/>
            </a:b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ecause I like badminton and I liked her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0:13:15Z</dcterms:created>
  <dc:creator>Miriam Laidlaw</dc:creator>
  <dc:description/>
  <dc:language>en-US</dc:language>
  <cp:lastModifiedBy>Ministry of Education</cp:lastModifiedBy>
  <dcterms:modified xsi:type="dcterms:W3CDTF">2008-09-25T02:31:11Z</dcterms:modified>
  <cp:revision>8</cp:revision>
  <dc:subject/>
  <dc:title>Name of Athlete</dc:title>
</cp:coreProperties>
</file>